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wmf" ContentType="image/x-wmf"/>
  <Override PartName="/ppt/media/image23.jpeg" ContentType="image/jpeg"/>
  <Override PartName="/ppt/media/image26.png" ContentType="image/png"/>
  <Override PartName="/ppt/media/image3.png" ContentType="image/png"/>
  <Override PartName="/ppt/media/image25.png" ContentType="image/png"/>
  <Override PartName="/ppt/media/image4.jpeg" ContentType="image/jpeg"/>
  <Override PartName="/ppt/media/image6.jpeg" ContentType="image/jpeg"/>
  <Override PartName="/ppt/media/image37.wmf" ContentType="image/x-wmf"/>
  <Override PartName="/ppt/media/image30.jpeg" ContentType="image/jpeg"/>
  <Override PartName="/ppt/media/image35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33.wmf" ContentType="image/x-wmf"/>
  <Override PartName="/ppt/media/image12.jpeg" ContentType="image/jpeg"/>
  <Override PartName="/ppt/media/image13.png" ContentType="image/png"/>
  <Override PartName="/ppt/media/image45.wmf" ContentType="image/x-wmf"/>
  <Override PartName="/ppt/media/image34.wmf" ContentType="image/x-wmf"/>
  <Override PartName="/ppt/media/image46.wmf" ContentType="image/x-wmf"/>
  <Override PartName="/ppt/media/image36.png" ContentType="image/png"/>
  <Override PartName="/ppt/media/image47.wmf" ContentType="image/x-wmf"/>
  <Override PartName="/ppt/media/image48.wmf" ContentType="image/x-wmf"/>
  <Override PartName="/ppt/media/image10.jpeg" ContentType="image/jpeg"/>
  <Override PartName="/ppt/media/image5.png" ContentType="image/png"/>
  <Override PartName="/ppt/media/image11.png" ContentType="image/png"/>
  <Override PartName="/ppt/media/image29.wmf" ContentType="image/x-wmf"/>
  <Override PartName="/ppt/media/image28.png" ContentType="image/png"/>
  <Override PartName="/ppt/media/image31.wmf" ContentType="image/x-wmf"/>
  <Override PartName="/ppt/media/image38.jpeg" ContentType="image/jpeg"/>
  <Override PartName="/ppt/media/image9.wmf" ContentType="image/x-wmf"/>
  <Override PartName="/ppt/media/image39.wmf" ContentType="image/x-wmf"/>
  <Override PartName="/ppt/media/image40.wmf" ContentType="image/x-wmf"/>
  <Override PartName="/ppt/media/image7.png" ContentType="image/png"/>
  <Override PartName="/ppt/media/image1.jpeg" ContentType="image/jpeg"/>
  <Override PartName="/ppt/media/image41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89B-BD7B-4278-8971-9180D8FF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452-4ADB-4578-AB53-EA3F9F91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CDC-44FB-4D32-A09D-A08CF16A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AE2D-7741-42D3-BAD8-E3235FC0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AFAC-1147-433C-A890-93374F33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7D89-6DA3-47C9-90B8-979603B8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CADB-91BB-4155-BB90-58F99E64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0D49-A4E1-4A64-9D70-2CC6A7A9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F130-F4A8-4A28-90B6-B30A2947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CBD4-B7A4-4D1F-8309-3B6AE3D9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EC6F-7C93-44FD-AA8E-67160F4B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237-83DA-4061-898B-1549B026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173D-54DB-4D01-B02A-2A703BC7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5E9A-A49A-47F3-8604-656F4814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DD42-421C-4C66-8399-173A8046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3FCA-7993-476B-B3F5-26104ADF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1BD5-D1F6-4EA5-90E0-8A97920C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4FF-380D-45B7-A0DA-B13806A0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107-819E-4322-BE28-37F12C3C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5CC-8006-4BA1-9142-BA16180A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0EC-4E66-43F4-A481-7AFF4287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F9B-54AF-4055-A8CF-8484E096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94B-CCFC-4475-B9AE-76AB2E53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CB6-0B36-4DB4-B4DD-A554B239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798A-C8B3-4850-80B7-999B16E255A1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E64A-6723-44FB-9E67-D7988A107E1A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3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3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.png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.png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.png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3.png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hyperlink" Target="http://micro.magnet.fsu.edu/electromag/java/rutherford/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Structure of the Atom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5877000"/>
            <a:ext cx="9144000" cy="64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2 – VCE Chemist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Problems with Rutherford’s Model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76160"/>
            <a:ext cx="798984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 Physics, experiments showed that particles which are accelerating lose energy in the form of radiation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f this was the case, the electrons would lose energy and be drawn into the nucleus in a fraction of a second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he radiated colours given off by moving particles can be seen using a spectroscope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iels Bohr’s experiments, using the emission spectrum, concluded that electrons must not be giving off energy continuously as the spectrum was not continuous.</a:t>
            </a:r>
            <a:r>
              <a:rPr b="1" lang="en-A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411280" y="4149720"/>
            <a:ext cx="3570480" cy="2133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156360" y="4005360"/>
            <a:ext cx="2166840" cy="2635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79280" y="4941720"/>
            <a:ext cx="2159280" cy="508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The Bohr Model of the Atom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676520"/>
            <a:ext cx="79898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hr agreed with Rutherford, but differed in the idea of electron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hr concluded that electron position effected their amounts of energy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rther an electron from the nucleus the greater the amounts of energy they posse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3168720" cy="2622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8172360" y="144360"/>
            <a:ext cx="808200" cy="808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4500720" y="3860640"/>
            <a:ext cx="3600360" cy="2657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Electron Shells - Boh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028000" cy="26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called the different orbits ‘shells’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hells are called K,L,M,N etc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s fill the lower shells and progress further from the nucleu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electrons held by each shell is equal to 2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=number of shell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normal laboratory conditions, the electrons are in their ground stat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748980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Explaining Spectra using Bohr’s Model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76520"/>
            <a:ext cx="799128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hr linked the spectra of elements and the concept of level jumping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electrons are heated they are able to jump to a higher level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then return quickly to their ground state which releases photons (light energy)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me tests can be used to view the release of photo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1280" y="44370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132000" y="4437000"/>
            <a:ext cx="3229200" cy="2081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588000" y="4437000"/>
            <a:ext cx="209412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8316720" cy="4895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597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Forming an Emission Spectrum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Electron Configurat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16292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arrangement of electrons in their shells is termed the electron configura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720072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pectral Line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7458120" cy="3824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26920" y="58770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– An electron moves from level 5 to 2. There are 6 possible moves for the electron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2.2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424720" cy="4848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7 on P. 30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732720" y="400536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Atomic Numb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676160"/>
            <a:ext cx="8496000" cy="29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protons is unique to each elemen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omic number therefore is the number of protons presen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omic number has the symbol Z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are arranged on the periodic table in increasing atomic size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lement has equal number of protons and electrons – therefore being neutrally charge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 number (A) will be studied next chapter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3267000" cy="1647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211640" y="4437000"/>
            <a:ext cx="4248000" cy="1630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Problems with Bohr’s Model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676520"/>
            <a:ext cx="7989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echnology improved, the spectral analysis of Bohr’s model was questione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such as; atoms don’t have colour, electrons aren’t visible and move at the speed of light, atoms can’t be drawn to scale, the nucleus contains protons and neutrons, the atom is spheric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athode Ray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4824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cientists such as Michael Faraday, Heinrich Geissler and William Crookes (See picture) used electric current in a tube to produce a mysterious glow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tube is called a Crookes tube (See diagram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tube has a cathode (negative electrode) and an anode (positive electrode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s glow was a result of cathode rays. Light was travelling from the negative to the positive terminal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xperiments showed that the particles travelled in straight lines unless subjected to electrical or magnetic forces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93080" y="3789360"/>
            <a:ext cx="1728720" cy="256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580000" y="333360"/>
            <a:ext cx="3313080" cy="1193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435640" y="3789360"/>
            <a:ext cx="1604880" cy="2376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5364000" y="1700280"/>
            <a:ext cx="3456000" cy="194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96000" y="5877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aday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67640" y="630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oke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dfd293"/>
                </a:solidFill>
                <a:latin typeface="Arial Black"/>
              </a:rPr>
              <a:t>The Scr</a:t>
            </a: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ö</a:t>
            </a:r>
            <a:r>
              <a:rPr b="0" lang="en-AU" sz="4000" spc="-1" strike="noStrike">
                <a:solidFill>
                  <a:srgbClr val="dfd293"/>
                </a:solidFill>
                <a:latin typeface="Arial Black"/>
              </a:rPr>
              <a:t>dinger Model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446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ectral analysis of elements suggested that electron shells don’t have the same amounts of energy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c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inger called for sub-shell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hell is divided into subshells (also called sub-energy levels) - regions within a shell that have a similar amount of energ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have characteristic shapes and different amounts of energ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&lt; p &lt; d &lt; f &lt; 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 = number of subshell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Sharp (s) =2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Principal (p) = 6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Diffuse (d) = 10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Fine (f) = 14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1462320" cy="1900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003640" y="3500280"/>
            <a:ext cx="352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d Examp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– 2,8,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assium – 2,8,8,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6659640" y="1413000"/>
            <a:ext cx="228420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dfd293"/>
                </a:solidFill>
                <a:latin typeface="Arial Black"/>
              </a:rPr>
              <a:t>The Subshell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7993080" cy="4859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dfd293"/>
                </a:solidFill>
                <a:latin typeface="Arial Black"/>
              </a:rPr>
              <a:t>Atomic Orbital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5905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lectrons are not confined to circular orbit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stead they move in regions of space called atomic orbital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ubshell is made up of orbital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rbital is the region of space in which the electron travels within the subshell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bitals are assigned a letter according to the subshell it is in   (s, p, d, f, g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can be: 1 s orbital, 3 p orbitals, 5 d orbitals, 7 f orbitals, 9 g orbital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7705800" cy="2232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6372360" y="1341360"/>
            <a:ext cx="259848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7489800" cy="5667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724360" y="2997360"/>
            <a:ext cx="2283120" cy="2339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dfd293"/>
                </a:solidFill>
                <a:latin typeface="Arial Black"/>
              </a:rPr>
              <a:t>The Energies of Subshells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203640" y="1628640"/>
            <a:ext cx="5400720" cy="4684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68360" y="1628640"/>
            <a:ext cx="245592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Quantum Mechanical Model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7850160" cy="4753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7850160" cy="6335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971640" y="241200"/>
            <a:ext cx="7921440" cy="6356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2.3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4920" y="1676160"/>
            <a:ext cx="8497800" cy="4848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6 on P. 38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6877080" y="393372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Arial Black"/>
              </a:rPr>
              <a:t>Review Question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848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6 on P. 40 - 41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732720" y="378936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260280"/>
            <a:ext cx="6222960" cy="6408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6720" y="2924280"/>
            <a:ext cx="2340000" cy="1833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The Discovery of the Electron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4405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seph John Thomson investigated cathode rays from 1884 to 1919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 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‘Can the negative charge be separated from the cathode rays by means of magnetism?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omson concluded that the negative charge was inseparable from the rays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 2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‘Can the rays be deflected by an electric field?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omson found that the rays did bend under the influence of an electric field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 3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‘Can charge-to-mass ratio of the cathode rays measure how much they were being deflected by a magnetic field and how much energy they carried?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He found that the charge to mass ratio was over a thousand times higher than that of a proton, suggesting either that the particles were very light or very highly charged.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164360" y="836640"/>
            <a:ext cx="1754280" cy="201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076720" y="1197000"/>
            <a:ext cx="1871640" cy="1798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003640" y="3141720"/>
            <a:ext cx="3924360" cy="1181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003640" y="4437000"/>
            <a:ext cx="1905120" cy="1505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7020000" y="4508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40720" y="278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mso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256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38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54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alton was wrong!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76520"/>
            <a:ext cx="4967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son deduced that the particles that made up the cathode rays were negatively charge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son concluded that atoms consist of a heavy part with a positive charge and a negative ‘corpuscles’ (Later called electrons) part held together by electrostatic attraction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known as the ‘plum pudding’ mod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therefore must have a neutral charg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435640" y="1844640"/>
            <a:ext cx="3530520" cy="3530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227640" y="5300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The Alpha-particle Scattering Experiment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676520"/>
            <a:ext cx="4405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nest Rutherford and Hans Geiger investigated radiation travelling through or being blocked by varying thickness of material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adiation consisted of alpha-particles – atoms of Helium that have lost their electrons and hence are positively charged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xperiment surprisingly showed that some of the radiation reflected back through a thin sheet of gold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therford concluded that a concentrated point in the atom, called the nucleus, must have caused the reflection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lso concluded that most of the atom is made up of empty space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740720" y="40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932360" y="1700280"/>
            <a:ext cx="381636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Rutherford’s Experi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7415280" cy="2376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63640" y="3789360"/>
            <a:ext cx="57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http://micro.magnet.fsu.edu/electromag/java/rutherford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16000" y="4149720"/>
            <a:ext cx="741672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Rutherford’s Nuclear Model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76520"/>
            <a:ext cx="433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ly, Rutherford deduced that the positive charge had to be concentrated in a sphere less than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diameter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herford also concluded that the electrons move around the nucleus in random orbit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nuclear model is shown on the right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672000" cy="4319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2.1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2 on P. 23 &amp; 24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659640" y="3789360"/>
            <a:ext cx="1841400" cy="2425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68360" y="3645000"/>
            <a:ext cx="6048360" cy="277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01:15:49Z</dcterms:created>
  <dc:creator>DE&amp;T User</dc:creator>
  <dc:description/>
  <dc:language>en-US</dc:language>
  <cp:lastModifiedBy>DE&amp;T User</cp:lastModifiedBy>
  <dcterms:modified xsi:type="dcterms:W3CDTF">2008-02-12T00:19:00Z</dcterms:modified>
  <cp:revision>35</cp:revision>
  <dc:subject/>
  <dc:title>The Structure of the Atom</dc:title>
</cp:coreProperties>
</file>